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AC42-0049-493D-81A2-7EC742AA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8B75-6F7C-4FD4-A855-04F48246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4B75-C989-4C32-B014-9B7D2048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A562-E888-4A9C-BDCD-66963B51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DB4-67E4-4797-B0C0-8BB5F6C3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9E3B-ABC1-4498-A09F-EBECDB96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F02-E29B-49D5-BE69-43AC7D91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EF32-E849-41E2-9633-F0362271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E758-AD39-49CA-98CE-D2689F4C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97B8-C344-4440-89B6-0E6F0826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B3F0-D16F-4841-9F6F-A8560E62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7221-64F5-406E-B4F6-C9798EC4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6E4F-B32E-436D-BED0-EC1E063C2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2.wordpress.com/?id=725X1342&amp;site=osusurvey09.wordpress.com&amp;url=http%3A%2F%2F95820daa-a0c5-4ec1-b66b-5d8f11bbc11b%2Fapplication.pdf&amp;sref=http%3A%2F%2Fosusurvey09.wordpress.com%2F2009%2F12%2F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phillipscollection.org/migration_series/flash/experience.cf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eat 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2004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 the Art of Jacob Law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very town Negroes were leaving by the Hundreds to go North and enter into Northern industry.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From every southern town migrants left by hundreds to travel nort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6171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ntryps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1905120"/>
            <a:ext cx="6096240" cy="4047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migrants moved to Pittsburgh, which was a great industrial center at the time."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e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71500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42670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37, Many migrants found work in the steel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63241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lipscollection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181480" y="914400"/>
            <a:ext cx="357192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semer Process for Ste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1528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. 31…in the North, there was improved housing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lipscollection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6386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lem Citysc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engl352.pbworks.com/f/HarlemRenstreetscene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94072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. 59, In the North they had the freedom to v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6324480"/>
            <a:ext cx="4495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lipscollection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19720" y="1447920"/>
            <a:ext cx="34416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49…They found discrimination in the North. It was a different k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63241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chris32.files.wordpress.com/2009/11/discriminat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298116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Great 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-called “Second Great Migration” took place during World War II (1940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frican-Americans moved North to find war industry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lso moved westward to places like California for war-related industrial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hillipscollection.org/migration_series/flash/experience.c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 Migr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 Migration took place during World War I (approx 1917-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ons of African-Americans moved from their homes in the South to new homes in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our foc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asons would African-Americans have to leave the Sou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nd where did they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life like for them in their new ho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Migration Se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Panel No.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5943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a.g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00704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. 17, “Tenant farmers received harsh treatment at the hands of planter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6248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3216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croppers in Alab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61722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yclopediaofalabam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Tenant farmers in Eutaw County hoe their cotton fields in July 1936. The image was "/>
          <p:cNvPicPr/>
          <p:nvPr/>
        </p:nvPicPr>
        <p:blipFill>
          <a:blip r:embed="rId1"/>
          <a:stretch/>
        </p:blipFill>
        <p:spPr>
          <a:xfrm>
            <a:off x="1752480" y="1523880"/>
            <a:ext cx="53308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3526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. 25, They left their homes.  Soon some communities were left almost emp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6019560"/>
            <a:ext cx="2133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illipscollection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3434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ecropper’s House, North Carolina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0199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ewhistonspirn.com, Dorothy L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753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were lynching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0199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knowledgenew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Jacob Lawrence (American, 1917-2000) - The Migration Series (1940-41) - Panel no.15 - 'There were lynchings.' (title and text revised by the artist, 1993) - Casein tempera on hardboard - 12 x 18 in. The Phillips Collection, D.C., acquired 1942"/>
          <p:cNvPicPr/>
          <p:nvPr/>
        </p:nvPicPr>
        <p:blipFill>
          <a:blip r:embed="rId1"/>
          <a:stretch/>
        </p:blipFill>
        <p:spPr>
          <a:xfrm>
            <a:off x="1066680" y="1143000"/>
            <a:ext cx="666756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02:23:22Z</dcterms:created>
  <dc:creator>ACPS</dc:creator>
  <dc:description/>
  <dc:language>en-US</dc:language>
  <cp:lastModifiedBy>ACPS</cp:lastModifiedBy>
  <dcterms:modified xsi:type="dcterms:W3CDTF">2010-07-17T17:42:14Z</dcterms:modified>
  <cp:revision>19</cp:revision>
  <dc:subject/>
  <dc:title>The Great Migration</dc:title>
</cp:coreProperties>
</file>